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093-142D-48A9-8BFD-D750399B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C35-CDB5-489E-8334-71012E77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9A8-7FA4-4209-B33D-793A4958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CB1-51C3-41C2-B804-582ABB64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383-B8AF-4FA3-B087-4419857B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673-E72B-4F5F-A60F-52A85ADB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F3F-2723-448C-A192-C54D94D4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728-3908-4A2F-939D-C2B28B0E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EE2-9F1C-4F6D-A08B-C120EA8B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683-7131-4515-B99A-1321155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FBA-D779-444F-B633-688EF7B0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622-A3F4-4890-B1D2-5DF1D16B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FBD5-F856-4BF0-876D-4183594B8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2120"/>
            <a:ext cx="807732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nformal Roman"/>
              </a:rPr>
              <a:t>Ancient Egyptian Science and Medicine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Emily Ehrl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Sara Bar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Gabbi Sto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2019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ffff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Question 1 in the Mumm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There were a lot different tools that the Ancient Egyptians used to fish out the internal org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hich one was used first to fish out pieces of the bra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2590920" cy="185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1743120" cy="1743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6:14Z</dcterms:created>
  <dc:creator>Default</dc:creator>
  <dc:description/>
  <dc:language>en-US</dc:language>
  <cp:lastModifiedBy>Default</cp:lastModifiedBy>
  <dcterms:modified xsi:type="dcterms:W3CDTF">2009-01-12T18:06:50Z</dcterms:modified>
  <cp:revision>2</cp:revision>
  <dc:subject/>
  <dc:title>Slide 1</dc:title>
</cp:coreProperties>
</file>